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FD3E-0F75-40E3-AC23-B95C584EE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4631-D460-4C7B-94C2-EE58625A1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5B98-008E-4FC0-8F69-28A7BE258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491E-DCA9-41FD-AECE-741EC1206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0E81A-C943-4A58-B628-230B0C47D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7CEEC-1FE4-48F5-9DCF-82C0FEECF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D93C2-6A64-4845-95AB-0C4ABDABC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12D1B-732F-4D3C-BB2C-13979CBA6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F29BD-B37D-4264-9663-DDF195373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1B987-950F-4400-A693-DBC9A8D3F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9979A-D8A2-4E5E-9B5B-93290350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9D4D-5B2C-4B38-A325-00D3A5F43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0D00C-5041-4BD8-A0C8-4CA10014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C6E55-D6F9-455F-B147-2A40BBF3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5BA3B-4807-4744-9679-B2CD131CC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CD683-4CBA-4AAC-B84B-F2313176B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6D1D6-9C85-47B2-9CBA-659E0EE46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5007-E857-4BD3-9113-CF6D46B5D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59D6-8F80-42F7-840E-B96D247DB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AA90-9FE8-4B66-858D-6DAAEA0EF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7B9E-4D7D-444D-87AD-578B08C40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03E4-6FEA-46F7-9E77-A428845E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642D-246B-442C-A170-E5CBD91F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1B1A-235C-460C-928E-483645DB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7C5CB-20D5-4F5C-A0E5-2C10D6653911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14EB8-980C-4103-80A4-32EC418FC6C9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atto.buffalo.edu/registered/ATBasics/Foundation/Laws/atlegislation.php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1797120"/>
            <a:ext cx="7772400" cy="14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Assistive Technology </a:t>
            </a:r>
            <a:br>
              <a:rPr sz="4400"/>
            </a:b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ools That Benefit ALL Learner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-360" y="43430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By Lourdes Day, FDLRS Technology Specialist and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Local Assistive Technology Team (LAT)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762120" y="5867280"/>
            <a:ext cx="8001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Florida Diagnostic and Learning Resources System (FDLRS) is funded through IDEA, Part B and State General Revenue Funds to provide support services to Florida’s Exceptional Student Education Program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Arial"/>
                <a:ea typeface="Arial"/>
              </a:rPr>
              <a:t>AT Referral for ESE Students in Polk or Hardee 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21016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-38844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A student may be referred by a teacher, therapist, or parent</a:t>
            </a:r>
            <a:br>
              <a:rPr sz="2800"/>
            </a:b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88440" indent="-38844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The school support team ie… teacher, SLP, OT or PT determines FIRST if the need can be met at the school level.</a:t>
            </a:r>
            <a:br>
              <a:rPr sz="2800"/>
            </a:b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88440" indent="-38844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A referral is submitted to the Local Assistive Technology Team (LATS)</a:t>
            </a:r>
            <a:br>
              <a:rPr sz="2800"/>
            </a:b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88440" indent="-38844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The LATS will review the case and either request further information from the school or set up an appointment to evaluate the student.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2" name="Footer Placeholder 3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762120"/>
            <a:ext cx="8915400" cy="14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Arial"/>
                <a:ea typeface="Arial"/>
              </a:rPr>
              <a:t>The Local Assistive Technology Team (LATS)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Polk County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Joanne Stidham- Speech Language Pathologist (LEAD)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Lorrie Prince –Speech Language Diagnostician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Judy Sanders- Occupational Therapist –ESE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Lourdes Day- Technology Specialist-FDLRS Polk/Hardee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397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Hardee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Teresa Hall- District Contact (Lead)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Shannon Robertson-Teacher of the Visually Impaired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Colleen Carey- Occupational Therapist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Nancy Parker- Regional LATS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5" name="Footer Placeholder 3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17680" y="721800"/>
            <a:ext cx="8596080" cy="74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  <a:ea typeface="Arial"/>
              </a:rPr>
              <a:t>Contacting the LAT team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The LAT team will evaluate, consult and train school staff. Contact them at :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Polk ESE 863-534-0930 (Joanne Stidham)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OR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FDLRS 863-647-4258 (Lourdes Day)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OR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Hardee ESE 863-773-2600 (Teresa Hall)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28" name="Picture 4" descr="bd04921_"/>
          <p:cNvPicPr/>
          <p:nvPr/>
        </p:nvPicPr>
        <p:blipFill>
          <a:blip r:embed="rId1"/>
          <a:stretch/>
        </p:blipFill>
        <p:spPr>
          <a:xfrm>
            <a:off x="7315200" y="152280"/>
            <a:ext cx="1320840" cy="1765440"/>
          </a:xfrm>
          <a:prstGeom prst="rect">
            <a:avLst/>
          </a:prstGeom>
          <a:ln w="0">
            <a:noFill/>
          </a:ln>
        </p:spPr>
      </p:pic>
      <p:sp>
        <p:nvSpPr>
          <p:cNvPr id="129" name="Footer Placeholder 4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9525240" cy="140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a3d7a"/>
                </a:solidFill>
                <a:latin typeface="Arial"/>
                <a:ea typeface="Arial"/>
              </a:rPr>
              <a:t>Assistive Technology Consideration</a:t>
            </a:r>
            <a:endParaRPr b="0" lang="en-US" sz="4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Ask the right questions?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What specifically does the student need to do?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What specific </a:t>
            </a:r>
            <a:r>
              <a:rPr b="1" lang="en-US" sz="3200" spc="-1" strike="noStrike" u="sng">
                <a:solidFill>
                  <a:srgbClr val="080808"/>
                </a:solidFill>
                <a:uFillTx/>
                <a:latin typeface="Arial"/>
                <a:ea typeface="Arial"/>
              </a:rPr>
              <a:t>IEP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 goal must the child meet?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What AT is the student currently using?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What accommodations or modification strategies have been tried? 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32" name="Picture 4" descr="bd00028_"/>
          <p:cNvPicPr/>
          <p:nvPr/>
        </p:nvPicPr>
        <p:blipFill>
          <a:blip r:embed="rId1"/>
          <a:stretch/>
        </p:blipFill>
        <p:spPr>
          <a:xfrm>
            <a:off x="7848720" y="1447920"/>
            <a:ext cx="1062000" cy="1041120"/>
          </a:xfrm>
          <a:prstGeom prst="rect">
            <a:avLst/>
          </a:prstGeom>
          <a:ln w="0">
            <a:noFill/>
          </a:ln>
        </p:spPr>
      </p:pic>
      <p:sp>
        <p:nvSpPr>
          <p:cNvPr id="133" name="Footer Placeholder 4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  <a:ea typeface="Arial"/>
              </a:rPr>
              <a:t>Accommodation vs. Modifica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56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lnSpc>
                <a:spcPct val="90000"/>
              </a:lnSpc>
              <a:spcBef>
                <a:spcPts val="7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Arial"/>
                <a:ea typeface="Arial"/>
              </a:rPr>
              <a:t>Accommodation is changing </a:t>
            </a:r>
            <a:r>
              <a:rPr b="1" lang="en-US" sz="3000" spc="-1" strike="noStrike" u="sng">
                <a:solidFill>
                  <a:srgbClr val="080808"/>
                </a:solidFill>
                <a:uFillTx/>
                <a:latin typeface="Arial"/>
                <a:ea typeface="Arial"/>
              </a:rPr>
              <a:t>HOW</a:t>
            </a:r>
            <a:r>
              <a:rPr b="0" lang="en-US" sz="3000" spc="-1" strike="noStrike">
                <a:solidFill>
                  <a:srgbClr val="080808"/>
                </a:solidFill>
                <a:latin typeface="Arial"/>
                <a:ea typeface="Arial"/>
              </a:rPr>
              <a:t> the student is instructed and is assessed</a:t>
            </a:r>
            <a:endParaRPr b="0" lang="en-US" sz="3000" spc="-1" strike="noStrike">
              <a:solidFill>
                <a:srgbClr val="080808"/>
              </a:solidFill>
              <a:latin typeface="Times New Roman"/>
            </a:endParaRPr>
          </a:p>
          <a:p>
            <a:pPr lvl="1" marL="893520" indent="-3960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EX-Setting, time, length of assignment, AT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893520" indent="-3960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General diploma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97440" indent="-397440">
              <a:lnSpc>
                <a:spcPct val="90000"/>
              </a:lnSpc>
              <a:spcBef>
                <a:spcPts val="7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Arial"/>
                <a:ea typeface="Arial"/>
              </a:rPr>
              <a:t>Modification is changing </a:t>
            </a:r>
            <a:r>
              <a:rPr b="1" lang="en-US" sz="3000" spc="-1" strike="noStrike" u="sng">
                <a:solidFill>
                  <a:srgbClr val="080808"/>
                </a:solidFill>
                <a:uFillTx/>
                <a:latin typeface="Arial"/>
                <a:ea typeface="Arial"/>
              </a:rPr>
              <a:t>WHAT</a:t>
            </a:r>
            <a:r>
              <a:rPr b="0" lang="en-US" sz="3000" spc="-1" strike="noStrike">
                <a:solidFill>
                  <a:srgbClr val="080808"/>
                </a:solidFill>
                <a:latin typeface="Arial"/>
                <a:ea typeface="Arial"/>
              </a:rPr>
              <a:t> the student is expected to learn</a:t>
            </a:r>
            <a:endParaRPr b="0" lang="en-US" sz="3000" spc="-1" strike="noStrike">
              <a:solidFill>
                <a:srgbClr val="080808"/>
              </a:solidFill>
              <a:latin typeface="Times New Roman"/>
            </a:endParaRPr>
          </a:p>
          <a:p>
            <a:pPr lvl="1" marL="893520" indent="-3960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EX-4</a:t>
            </a:r>
            <a:r>
              <a:rPr b="0" lang="en-US" sz="2800" spc="-1" strike="noStrike" baseline="30000">
                <a:solidFill>
                  <a:srgbClr val="080808"/>
                </a:solidFill>
                <a:latin typeface="Arial"/>
                <a:ea typeface="Arial"/>
              </a:rPr>
              <a:t>th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grade math in an Algebra class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893520" indent="-3960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Special diploma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97440" indent="-3974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Learn more about accommodations strategies, click below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89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http://www.cpt.fsu.edu/ese/in/acom/needs/nslist.htm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l 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1973880" y="1219320"/>
            <a:ext cx="481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Good Strategies + AT = Succes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Footer Placeholder 4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560" y="837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  <a:ea typeface="Arial"/>
              </a:rPr>
              <a:t>AT Purchase for ESE Student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The school district is required to provide assistive technology if it is necessary to meet IEP goals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The device may go home if the IEP team determines that it is necessary to receive FAPE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Some students may receive funds from private insurance or Medicaid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These devices are then the property of the family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40" name="Picture 4" descr="bd04896_"/>
          <p:cNvPicPr/>
          <p:nvPr/>
        </p:nvPicPr>
        <p:blipFill>
          <a:blip r:embed="rId1"/>
          <a:stretch/>
        </p:blipFill>
        <p:spPr>
          <a:xfrm>
            <a:off x="4419720" y="5867280"/>
            <a:ext cx="1120680" cy="711360"/>
          </a:xfrm>
          <a:prstGeom prst="rect">
            <a:avLst/>
          </a:prstGeom>
          <a:ln w="0">
            <a:noFill/>
          </a:ln>
        </p:spPr>
      </p:pic>
      <p:sp>
        <p:nvSpPr>
          <p:cNvPr id="141" name="Footer Placeholder 4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05840"/>
            <a:ext cx="9067680" cy="140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Arial"/>
                <a:ea typeface="Arial"/>
              </a:rPr>
              <a:t>AT Acquisition for Non ESE Student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School technology funds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Other school funds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Grants 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Community groups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Fund Raiser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44" name="Picture 5" descr="bd18043_"/>
          <p:cNvPicPr/>
          <p:nvPr/>
        </p:nvPicPr>
        <p:blipFill>
          <a:blip r:embed="rId1"/>
          <a:stretch/>
        </p:blipFill>
        <p:spPr>
          <a:xfrm>
            <a:off x="5867280" y="2666880"/>
            <a:ext cx="2586240" cy="3006720"/>
          </a:xfrm>
          <a:prstGeom prst="rect">
            <a:avLst/>
          </a:prstGeom>
          <a:ln w="0">
            <a:noFill/>
          </a:ln>
        </p:spPr>
      </p:pic>
      <p:sp>
        <p:nvSpPr>
          <p:cNvPr id="145" name="Footer Placeholder 4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  <a:ea typeface="Arial"/>
              </a:rPr>
              <a:t>Assistive Technology Group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Arial"/>
                <a:ea typeface="Arial"/>
              </a:rPr>
              <a:t>Two Major Groups</a:t>
            </a:r>
            <a:endParaRPr b="0" lang="en-US" sz="3000" spc="-1" strike="noStrike">
              <a:solidFill>
                <a:srgbClr val="080808"/>
              </a:solidFill>
              <a:latin typeface="Times New Roman"/>
            </a:endParaRPr>
          </a:p>
          <a:p>
            <a:pPr marL="361080" indent="-361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Arial"/>
                <a:ea typeface="Arial"/>
              </a:rPr>
              <a:t>Access Technology-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devices that help a student access instructional materia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811080" indent="-359640">
              <a:lnSpc>
                <a:spcPct val="10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Can be used by all students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lvl="2" marL="1082160" indent="-180360">
              <a:lnSpc>
                <a:spcPct val="10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Alternate keyboard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2" marL="1082160" indent="-180360">
              <a:lnSpc>
                <a:spcPct val="10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Color filters, software…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Arial"/>
                <a:ea typeface="Arial"/>
              </a:rPr>
              <a:t>Adaptive Technology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-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devices which help an individual move about, communicate in or control their environments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811080" indent="-359640">
              <a:lnSpc>
                <a:spcPct val="10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Mostly used by student with disability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lvl="2" marL="1082160" indent="-180360">
              <a:lnSpc>
                <a:spcPct val="10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Devices(Communication)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2" marL="1082160" indent="-180360">
              <a:lnSpc>
                <a:spcPct val="10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Teletypewriter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Footer Placeholder 3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17680" y="721800"/>
            <a:ext cx="8596080" cy="74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  <a:ea typeface="Arial"/>
              </a:rPr>
              <a:t>Assistive Technology Rang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The need for AT is determined on a </a:t>
            </a:r>
            <a:r>
              <a:rPr b="0" lang="en-US" sz="3200" spc="-1" strike="noStrike" u="sng">
                <a:solidFill>
                  <a:srgbClr val="080808"/>
                </a:solidFill>
                <a:uFillTx/>
                <a:latin typeface="Arial"/>
                <a:ea typeface="Arial"/>
              </a:rPr>
              <a:t>case by case basis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; and ensures access to a free and appropriate public education as determined by the IEP team</a:t>
            </a:r>
            <a:br>
              <a:rPr sz="2800"/>
            </a:b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54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A student may benefit from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540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Lite/Low Tech Solutions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540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High Tech Solutions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51" name="Footer Placeholder 3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  <a:ea typeface="Arial"/>
              </a:rPr>
              <a:t>Lite/Low Tech Rang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80880" y="18288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Lite tech (LoTTIE Kit)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1" marL="1056240" indent="-49572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asily accessible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1056240" indent="-49572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w cost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1056240" indent="-49572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sed by Peers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1056240" indent="-495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ww.onionmountaintech.com (website for lite tech products)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443160" indent="-44316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Examples: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1" marL="1056240" indent="-49572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Color filters, reading guides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1056240" indent="-49572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Electronic dictionaries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54" name="Footer Placeholder 3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991720" cy="14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a3d7a"/>
                </a:solidFill>
                <a:latin typeface="Arial"/>
                <a:ea typeface="Arial"/>
              </a:rPr>
              <a:t>Assistive Technology Definition (AT)</a:t>
            </a:r>
            <a:endParaRPr b="0" lang="en-US" sz="4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Any item, piece of equipment or product system, whether acquired commercially off the shelf, modified, or customized, that is used to increase, maintain, or improve the function capabilities of a child with a disability.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IDEA Section 602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Footer Placeholder 3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  <a:ea typeface="Arial"/>
              </a:rPr>
              <a:t>High Tech Solution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16765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6080" indent="-226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High Tech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1" marL="834480" indent="-338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ery task specific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834480" indent="-338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igher cost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834480" indent="-338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metimes makes student feel “different” from peers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226080" indent="-226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Examples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1" marL="834480" indent="-338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Computers, scanners, voice recognition software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834480" indent="-338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Individualized communication devices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57" name="Footer Placeholder 3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  <a:ea typeface="Arial"/>
              </a:rPr>
              <a:t>Assistive Technology Can Help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Reading 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Writing(Motor)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Writing (Composing)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Math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Organizing/Studying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Computer Access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Communication 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Self Help/Daily Living Skills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60" name="Footer Placeholder 3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1920" y="837720"/>
            <a:ext cx="8596440" cy="140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  <a:ea typeface="Arial"/>
              </a:rPr>
              <a:t>Evaluation, Practice, Opportunities, and Review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22860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AT should be evaluated in the child’s natural setting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Success of AT comes with daily opportunities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AT must be an integral part of the curriculum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The technology needs to be continually monitored for its effectiveness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63" name="Footer Placeholder 3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  <a:ea typeface="Arial"/>
              </a:rPr>
              <a:t>Website Reference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ite Technology Solutions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ww.onionmountaintech.com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ccommodation – Student Needs &amp; Solutions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  <a:ea typeface="Arial"/>
              </a:rPr>
              <a:t>http://www.cpt.fsu.edu/ese/in/acom/needs/nslist.html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66" name="Footer Placeholder 3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  <a:ea typeface="Arial"/>
              </a:rPr>
              <a:t>AT Basics and Legisla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80520" y="16765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-420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Assistive Technology Basics</a:t>
            </a:r>
            <a:br>
              <a:rPr sz="2800"/>
            </a:b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http://www.aten.scps.k12.fl.us/resources.html</a:t>
            </a:r>
            <a:br>
              <a:rPr sz="2800"/>
            </a:b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http://www.gpat.org/Resources%20Main.htm</a:t>
            </a:r>
            <a:br>
              <a:rPr sz="2800"/>
            </a:b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http://atto.buffalo.edu/registered/ATBasics/Foundation/intro/index.php</a:t>
            </a:r>
            <a:br>
              <a:rPr sz="2800"/>
            </a:b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http://www.wati.org/index.html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Legislation</a:t>
            </a:r>
            <a:br>
              <a:rPr sz="2800"/>
            </a:b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http://atto.buffalo.edu/registered/ATBasics/Foundation/Laws/atlegislation.php</a:t>
            </a:r>
            <a:br>
              <a:rPr sz="2800"/>
            </a:b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http://www.gpat.org/Resources%20Main.htm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69" name="Footer Placeholder 3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  <a:ea typeface="Arial"/>
              </a:rPr>
              <a:t>Assistive Technology Servic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Any service that directly assists a child with a disability in the selection, acquisition, or use of an assistive technology device.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00" name="Footer Placeholder 3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17680" y="721800"/>
            <a:ext cx="8596080" cy="74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  <a:ea typeface="Arial"/>
              </a:rPr>
              <a:t>What this mean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Any tool or device that a student with a disability uses to do a task that he/she could not do otherwise without it. It can make the task easier, faster or done in a better way.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443160" indent="-44316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For some students AT is the only to access the curriculum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443160" indent="-44316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The device can be “lite” tech such as a pencil grip or as expensive as a computer.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03" name="Footer Placeholder 3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Arial"/>
                <a:ea typeface="Arial"/>
              </a:rPr>
              <a:t>Assistive Technology is a tool. It will never replace good teaching. It serves to give struggling students and those with a disability a way to be successful with the curriculum.</a:t>
            </a:r>
            <a:endParaRPr b="0" lang="en-US" sz="4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05" name="Footer Placeholder 2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534520" cy="14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  <a:ea typeface="Arial"/>
              </a:rPr>
              <a:t>Who benefits from Assistive Tech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Any student with a disability from mild to severe.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438840" indent="-43884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Any student with reading, writing, math, communications, vision, hearing, or motor problems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438840" indent="-43884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ESOL students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438840" indent="-43884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Students with 504 plans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438840" indent="-43884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Struggling students who do not qualify for ESE services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08" name="Picture 4" descr="bd07223_"/>
          <p:cNvPicPr/>
          <p:nvPr/>
        </p:nvPicPr>
        <p:blipFill>
          <a:blip r:embed="rId1"/>
          <a:stretch/>
        </p:blipFill>
        <p:spPr>
          <a:xfrm>
            <a:off x="7086600" y="3200400"/>
            <a:ext cx="1819440" cy="1716120"/>
          </a:xfrm>
          <a:prstGeom prst="rect">
            <a:avLst/>
          </a:prstGeom>
          <a:ln w="0">
            <a:noFill/>
          </a:ln>
        </p:spPr>
      </p:pic>
      <p:sp>
        <p:nvSpPr>
          <p:cNvPr id="109" name="Footer Placeholder 4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11426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Did you know the State of Florida allows a variety of assistive technology tools to be used on the FCAT by students with disabilities?</a:t>
            </a:r>
            <a:br>
              <a:rPr sz="3600"/>
            </a:b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914400" y="4114800"/>
            <a:ext cx="7391520" cy="1861560"/>
          </a:xfrm>
          <a:prstGeom prst="rect">
            <a:avLst/>
          </a:prstGeom>
          <a:noFill/>
          <a:ln w="41400">
            <a:solidFill>
              <a:srgbClr val="151f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*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These tools must be listed on the students IEP </a:t>
            </a:r>
            <a:r>
              <a:rPr b="1" lang="en-US" sz="3600" spc="-1" strike="noStrike" u="sng">
                <a:solidFill>
                  <a:srgbClr val="2a3d7a"/>
                </a:solidFill>
                <a:uFillTx/>
                <a:latin typeface="Times New Roman"/>
              </a:rPr>
              <a:t>AND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used daily as part of instructional strategies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40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  <a:ea typeface="Arial"/>
              </a:rPr>
              <a:t>Legal Responsibilities for ES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The school district is mandated by state and federal law (IDEA) to determine if a student with a disability needs assistive technology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After an AT evaluation, the final determination of AT use is made jointly by the IEP Team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15" name="Picture 4" descr="bd04900_"/>
          <p:cNvPicPr/>
          <p:nvPr/>
        </p:nvPicPr>
        <p:blipFill>
          <a:blip r:embed="rId1"/>
          <a:stretch/>
        </p:blipFill>
        <p:spPr>
          <a:xfrm>
            <a:off x="7848720" y="5398920"/>
            <a:ext cx="1251000" cy="1459080"/>
          </a:xfrm>
          <a:prstGeom prst="rect">
            <a:avLst/>
          </a:prstGeom>
          <a:ln w="0">
            <a:noFill/>
          </a:ln>
        </p:spPr>
      </p:pic>
      <p:sp>
        <p:nvSpPr>
          <p:cNvPr id="116" name="Footer Placeholder 4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  <a:ea typeface="Arial"/>
              </a:rPr>
              <a:t>AT Legisla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lnSpc>
                <a:spcPct val="100000"/>
              </a:lnSpc>
              <a:spcBef>
                <a:spcPts val="7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Arial"/>
                <a:ea typeface="Arial"/>
              </a:rPr>
              <a:t>Tech Act (PL 100 407) Technology Related Assistance for Individuals with Disabilities Act</a:t>
            </a:r>
            <a:endParaRPr b="0" lang="en-US" sz="3000" spc="-1" strike="noStrike">
              <a:solidFill>
                <a:srgbClr val="080808"/>
              </a:solidFill>
              <a:latin typeface="Times New Roman"/>
            </a:endParaRPr>
          </a:p>
          <a:p>
            <a:pPr marL="443160" indent="-443160">
              <a:lnSpc>
                <a:spcPct val="100000"/>
              </a:lnSpc>
              <a:spcBef>
                <a:spcPts val="7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Arial"/>
                <a:ea typeface="Arial"/>
              </a:rPr>
              <a:t>ADA (PL 101-336) Americans with Disabilities Act</a:t>
            </a:r>
            <a:endParaRPr b="0" lang="en-US" sz="3000" spc="-1" strike="noStrike">
              <a:solidFill>
                <a:srgbClr val="080808"/>
              </a:solidFill>
              <a:latin typeface="Times New Roman"/>
            </a:endParaRPr>
          </a:p>
          <a:p>
            <a:pPr marL="443160" indent="-443160">
              <a:lnSpc>
                <a:spcPct val="100000"/>
              </a:lnSpc>
              <a:spcBef>
                <a:spcPts val="7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Arial"/>
                <a:ea typeface="Arial"/>
              </a:rPr>
              <a:t>IDEA-Individual with Disabilities Education Act</a:t>
            </a:r>
            <a:endParaRPr b="0" lang="en-US" sz="3000" spc="-1" strike="noStrike">
              <a:solidFill>
                <a:srgbClr val="080808"/>
              </a:solidFill>
              <a:latin typeface="Times New Roman"/>
            </a:endParaRPr>
          </a:p>
          <a:p>
            <a:pPr marL="44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en-US" sz="3000" spc="-1" strike="noStrike">
                <a:solidFill>
                  <a:srgbClr val="080808"/>
                </a:solidFill>
                <a:latin typeface="Arial"/>
                <a:ea typeface="Arial"/>
              </a:rPr>
              <a:t>*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For more legislation Information click on the link below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ea typeface="Arial"/>
                <a:hlinkClick r:id="rId1"/>
              </a:rPr>
              <a:t>http://atto.buffalo.edu/registered/ATBasics/Foundation/Laws/atlegislation.php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19" name="Footer Placeholder 3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lourdes.day@polk-fl.n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3T19:48:03Z</dcterms:created>
  <dc:creator>lday</dc:creator>
  <dc:description/>
  <dc:language>en-US</dc:language>
  <cp:lastModifiedBy>lourdes.day</cp:lastModifiedBy>
  <dcterms:modified xsi:type="dcterms:W3CDTF">2008-06-11T21:00:13Z</dcterms:modified>
  <cp:revision>126</cp:revision>
  <dc:subject/>
  <dc:title>Assistive Technology</dc:title>
</cp:coreProperties>
</file>